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0F1-F25F-4CBB-9C97-F7355C48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358-8CCC-4878-8CDC-F6B15DC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2C8-C3C8-4EC0-A122-7CAE71A0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08A-7887-4517-99C0-367DC4B5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69-BA80-4559-A2C7-25ADBF2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0CF-AF89-4824-BF01-3BF5F51D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913-FB11-4286-B72B-6FAEA83E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378-85C1-4679-9A98-A3411F26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A11-D6B1-4E84-B119-C5BD805D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EF5-E9D2-447C-AB06-77A4280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C10-1E5C-4F5C-AE51-987859D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A6B-8F4E-4718-A856-1D5C7E19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3C11-F188-4793-80CD-D6D06237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Qu’est-ce que vous pensez quand vous entendez les mots « la plage » ou « la mer »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867280" y="26668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ut-être New Jersey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ild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l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a I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cean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n peut faire les magas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mment-sont les plages de N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169320" cy="509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62320" y="6172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y a les galets (pebbles)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eestyle Script"/>
              </a:rPr>
              <a:t>L’industrie </a:t>
            </a:r>
            <a:r>
              <a:rPr b="1" lang="fr-FR" sz="6000" spc="-1" strike="noStrike">
                <a:solidFill>
                  <a:srgbClr val="ffffff"/>
                </a:solidFill>
                <a:latin typeface="Freestyle Script"/>
              </a:rPr>
              <a:t>et l’économie de </a:t>
            </a:r>
            <a:r>
              <a:rPr b="1" lang="en-US" sz="6000" spc="-1" strike="noStrike">
                <a:solidFill>
                  <a:srgbClr val="ffffff"/>
                </a:solidFill>
                <a:latin typeface="Freestyle Script"/>
              </a:rPr>
              <a:t>Sè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vital industry is important an important way of life in Sèt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1635120"/>
            <a:ext cx="647712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9532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eestyle Script"/>
              </a:rPr>
              <a:t>Sè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ndustrie de la pê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of 2 great canals - the Canal du Midi and the Canal du Rhône à Sè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rt and seaside res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lus grande porte de la pêche dans le méditerran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ng de Thau- oysters and muss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plages de sable (s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10160" cy="345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91120" y="9144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l y a beaucoup de choses </a:t>
            </a:r>
            <a:r>
              <a:rPr b="0" lang="fr-FR" sz="9600" spc="-1" strike="noStrike">
                <a:solidFill>
                  <a:srgbClr val="ffffff"/>
                </a:solidFill>
                <a:latin typeface="Arial"/>
              </a:rPr>
              <a:t>à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faire </a:t>
            </a:r>
            <a:r>
              <a:rPr b="0" lang="fr-FR" sz="9600" spc="-1" strike="noStrike">
                <a:solidFill>
                  <a:srgbClr val="ffffff"/>
                </a:solidFill>
                <a:latin typeface="Arial"/>
              </a:rPr>
              <a:t>à la plag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Freestyle Script"/>
              </a:rPr>
              <a:t>Qu’est-ce que vous aimez faire à la plage 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19360" y="2209320"/>
            <a:ext cx="4724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ous aimez 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Narrow"/>
              </a:rPr>
              <a:t>Vous aimez faire les magas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971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 Demi"/>
              </a:rPr>
              <a:t>Vous aimez lire?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84344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Gill Sans Ultra Bold"/>
              </a:rPr>
              <a:t>Vous aimez f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Gill Sans Ultra Bold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Gill Sans Ultra Bold"/>
              </a:rPr>
              <a:t>du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3276720"/>
            <a:ext cx="2743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cc"/>
                </a:solidFill>
                <a:latin typeface="Curlz MT"/>
              </a:rPr>
              <a:t>Vous aimez écouter de la musique ?</a:t>
            </a:r>
            <a:r>
              <a:rPr b="1" lang="fr-FR" sz="36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1148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Vous aimez dorm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5636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Castellar"/>
              </a:rPr>
              <a:t>Vous aimez faire de l’équitation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reestyle Script"/>
              </a:rPr>
              <a:t>Les Plages en France</a:t>
            </a:r>
            <a:r>
              <a:rPr b="1" lang="en-US" sz="6600" spc="-1" strike="noStrike">
                <a:solidFill>
                  <a:srgbClr val="000000"/>
                </a:solidFill>
                <a:latin typeface="Freestyle Script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ésentation par Mlle. Smith 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Carte d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 la côte Franç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08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Normand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’est-ce qui se passé ici pendant l’année 1944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5410080" cy="380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3276720"/>
            <a:ext cx="266724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e Jour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 anglais D-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signé le 6 juin, 1944 et le débarquement alliés en Normandie pendant la deuxième guerre mondiale (WWII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00"/>
                </a:solidFill>
                <a:latin typeface="Freestyle Script"/>
              </a:rPr>
              <a:t>La Normandie Aujourd’hu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9072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nord: bordered by the English Chan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’ouest: granite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’est: limestone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 centre: long stretches of beaches (comme dans cette photo de la plage d’Oma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 “bocage” or hedged farmland, caused problems for the invading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Freestyle Script"/>
              </a:rPr>
              <a:t>La Côte d'Azur</a:t>
            </a:r>
            <a:br>
              <a:rPr sz="7200"/>
            </a:br>
            <a:r>
              <a:rPr b="1" lang="en-US" sz="7200" spc="-1" strike="noStrike">
                <a:solidFill>
                  <a:srgbClr val="0066ff"/>
                </a:solidFill>
                <a:latin typeface="Freestyle Script"/>
              </a:rPr>
              <a:t> ou “French Riviera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441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0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Canne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38480" y="2286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Pourquoi-est Cannes très célébré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295280"/>
            <a:ext cx="4343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e Festival du Fil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ille international depuis le milieu du </a:t>
            </a: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XXIème siècl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(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ent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nse activité touristiq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02264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38098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Qu’est-ce qu’on peut faire à Canne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8769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On peut aller au cinéma 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On peut regarder les films 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reestyle Script"/>
              </a:rPr>
              <a:t>Canne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reestyle Script"/>
              </a:rPr>
              <a:t>Nice </a:t>
            </a:r>
            <a:r>
              <a:rPr b="1" lang="fr-FR" sz="7200" spc="-1" strike="noStrike">
                <a:solidFill>
                  <a:srgbClr val="000000"/>
                </a:solidFill>
                <a:latin typeface="Freestyle Script"/>
              </a:rPr>
              <a:t>C’est Très « Nice »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1752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’est-ce qu’on peut faire à Nice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51460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r la côte sud-est de la méditerran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 millions de touristes chaque ann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nu comme « Nice La Bell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mat méditerra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été dur pendants 6 m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0:52:12Z</dcterms:created>
  <dc:creator>asmith</dc:creator>
  <dc:description/>
  <dc:language>en-US</dc:language>
  <cp:lastModifiedBy>asmith</cp:lastModifiedBy>
  <dcterms:modified xsi:type="dcterms:W3CDTF">2010-10-07T16:37:22Z</dcterms:modified>
  <cp:revision>4</cp:revision>
  <dc:subject/>
  <dc:title>Qu’est-ce que vous pensez quand vous entendez les mots « la plage » ou « la mer » ?</dc:title>
</cp:coreProperties>
</file>